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FA0-8745-42CA-AEDE-8532DEF4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FCD-476E-4254-BCF1-EFFEF78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ED8-4DA4-43C7-9CAE-8F7C7199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634-D096-4CFE-B4AC-38F2A6E9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AA0B-CFBD-4F56-962C-1ADA1FDC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E639-445C-41AB-9CEC-AC92FCC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0B9F-AE5F-4D61-BE46-139E05F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3B6F-293F-41F7-ACD0-9015C2A6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0E5A-9933-4A9B-811A-B70A3CF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62E-01CD-4A78-8F20-9D106CA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6E3E-5009-48FD-92E1-C14F2BF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90F-ED87-4CAA-B89D-8CF79951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5808-8C56-4709-BB0B-ABDFD2C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CAED-B85B-4F8F-A63D-11CEDD2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F7C6-A5F6-4243-963E-A4DE9F18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9139-C70C-4AA3-A5F9-9CB833C0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74D9-D0DC-4E72-96E6-342E57A1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B435-69DE-41A2-B7EB-6028B7C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9F6B-ACEA-4F51-A853-F3515100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3381-1EB1-40D1-A153-7243C36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9ABB-E74D-4EC3-8238-350979AF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F260-0C0D-43EA-BABB-F68F9AA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42D-C88D-41AC-9E49-089F950F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333A-3D9E-4A51-B68C-8D7948E8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ADF0-0AB5-49EC-BFD8-42DD1BD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C21F-F3AC-4FCD-8287-ACD0B0C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881B-7BC8-47D5-91BD-7DE8A553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E42E-3223-480E-85D5-1705B4D4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951F-5826-4608-95CD-630AAF74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32C6-D6E1-45D9-9BF4-0216B0DB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F66-04D0-4046-98CB-312DB58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007-A3AD-42F4-B95F-29B89635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841-910E-45C9-B63B-A3F91BC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631-A2AD-46E9-B667-61F2203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416-0B31-418F-9178-B9E3EBC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E94-D1C8-4D4C-8DEC-7476BEB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4E4-B721-41EC-BC6B-D50D2BF57BE5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AD5-1355-469F-9B34-DFA0C98AB27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B74-7814-449E-AB64-934113F51CA9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ím 1" descr=""/>
          <p:cNvPicPr/>
          <p:nvPr/>
        </p:nvPicPr>
        <p:blipFill>
          <a:blip r:embed="rId1"/>
          <a:stretch/>
        </p:blipFill>
        <p:spPr>
          <a:xfrm>
            <a:off x="920880" y="1920960"/>
            <a:ext cx="7186320" cy="148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Practice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ím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944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I wen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o the zoo </a:t>
            </a: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yesterday afternoon.  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you go yesterday afternoo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 came to school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by car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his morning. 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How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How did you come to school this mornin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I had a good time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t the birthday party</a:t>
            </a: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you have a good tim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he neighbours buil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new house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ast year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the neighbours build last year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I drank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coffee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 the morning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you drink in the mornin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 read this book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last month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n did you read this book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The birds flew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o Africa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 autumn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the birds fly in autum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e broke his leg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last week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n did he break his le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The dog bi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he postman </a:t>
            </a: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yesterday morning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o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o did the dog bite yesterday morning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 go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present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for my birthday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you get for your birthday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We learnt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new words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 the English lesson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at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at did you learn in the English lesson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he drew a flower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on the wall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she draw a flower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he tore the letter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because she was angry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y did she tear the letter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e did his homework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in his bedroom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he do his homework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ím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f2d32"/>
                </a:solidFill>
                <a:latin typeface="Calibri"/>
              </a:rPr>
              <a:t>He left his money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on the bus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Where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7030a0"/>
                </a:solidFill>
                <a:latin typeface="Calibri"/>
              </a:rPr>
              <a:t>Where did he leave his money?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8:14:31Z</dcterms:created>
  <dc:creator>Library</dc:creator>
  <dc:description/>
  <dc:language>en-US</dc:language>
  <cp:lastModifiedBy>Library</cp:lastModifiedBy>
  <dcterms:modified xsi:type="dcterms:W3CDTF">2012-10-18T13:11:30Z</dcterms:modified>
  <cp:revision>12</cp:revision>
  <dc:subject/>
  <dc:title>Irregular Verbs</dc:title>
</cp:coreProperties>
</file>